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3F1-7E8D-458C-88E5-E2EFF809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851-4091-44F7-8CBB-DC48FDFD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26E-78F3-476E-8B07-ECF854DB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3D2-340E-4FF6-A391-9180A6FB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156-BB84-476D-AA3C-E77D546E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D99-DE11-48FE-9D9D-9F657463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B67-1964-4852-8859-E59FF237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4AB-DB9B-4949-9B90-4B36E691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34D-6A36-426C-9765-1903A15B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251-D978-40B7-B8E2-9E0EF70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C29-E3C8-4F12-978D-BCA179E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BC3-3F6C-4DD1-BCDF-FFB14D1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CFA8-7ABA-41DD-9F21-C9911B140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B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 We will use 3 x 150,000 L fermen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ing and maintain 12hrs, ? What cleaning solution to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ing algae ( first 43 hrs is exponential, then stationary up to 74 h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74 hrs no growth just producing lipids for next 48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Growing 122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134 hrs per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t calculated yet is step up process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e processing of the algae 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Sterilization Time ??? We are going to run the used medium through a heat 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proper temperature and Psig for certain amount of time, so that we don’t have to keep fluctuating the fer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2:27:57Z</dcterms:created>
  <dc:creator>xplabpc</dc:creator>
  <dc:description/>
  <dc:language>en-US</dc:language>
  <cp:lastModifiedBy>xplabpc</cp:lastModifiedBy>
  <dcterms:modified xsi:type="dcterms:W3CDTF">2010-02-05T23:30:01Z</dcterms:modified>
  <cp:revision>3</cp:revision>
  <dc:subject/>
  <dc:title>Yields</dc:title>
</cp:coreProperties>
</file>